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29CD-F9E7-4B1F-A4D2-B5D53B18B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9ADA-7FBA-4079-9DC4-64C7C7FBDB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DF30-BC5C-4792-9FE7-47FC18A77E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EF90-8D01-400A-9C02-40DFD62346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AF7B-A1E1-4B3D-B498-E8762E0048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ABB8-0D71-4005-BB05-372A2324F6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D25D-E62F-4934-AD1B-CA502D5C0E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A110-5C7F-48A8-84C0-0643E914B6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2D52-940C-466C-98B3-552F705DE8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796E-EB63-49C4-8EAF-E1913C7BFD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9B68-A597-4E72-9892-3E8E748911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72BC-D0CA-485E-AB71-394513C2FF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F443-0302-461A-BEAF-C2212D3620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527C-16B9-41B1-A3DA-0EFB34EC7A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D08F-DCE4-4E20-9AD5-2D12E6BEFA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57B3-4DC0-4E9A-822A-4FE823DB35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13C2-8416-4AB8-9BB6-CA3037692A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EE96-408F-4CF0-BE51-CCEE9FD3C5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892B-ADEB-42BF-ABEF-B735496AB4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C0DF-030F-4344-9A5D-28D4032EBB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D966-0607-4105-BFE7-2C42E344BA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5EAC-F3F7-444D-8803-2128FA76D3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8548-D342-4204-8D28-2471C0E3A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01FD-4F32-4F28-8888-B00E7DAC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028E-115D-44EA-9CA0-2870FEE8F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6A2B-9C4D-461B-A9C2-C247480C1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F958-2960-4F02-B563-D9EE6AFEA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A1D3-E0BC-4352-9DC8-8EB4751B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94DE-7885-4670-9104-E5E5BA68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AFE0-C7C4-4E0D-A997-3B554E39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8D36-1AE0-4889-8173-9F491BEC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75D7-F1AA-4143-A9F5-038C7E76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4E376-3BDC-4354-B952-49EE4CD2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8904-E615-4454-9D27-8E87ACAC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2527-64E0-42AF-9B03-A15F2BAC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9DA8-E537-491B-981F-F87A391D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4DDB-0B9E-4627-9285-25BA6886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B8C5-1A08-461A-AAD2-32CFF2196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9FF6-7FA0-49A8-B063-BC36F0959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8152-8F22-417A-8FBB-AACAC6A2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4CF8-0231-4E1A-AF7A-FB612D79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E626-098C-4B1F-8371-8CA0ABF7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E8D5-559A-4150-891F-D94EA8A6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5400-6A34-4C94-A1BE-ACADEBF3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36E9-411F-4AC4-8075-5652E210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C9E7-38D0-4837-BBE6-003A371C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07CB-C250-47E8-BF3B-14B1140A49B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321D-3CC9-45B6-AF0C-16F3E896DE7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The Russian Revolu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5867280"/>
            <a:ext cx="4038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8320" y="1599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8320" y="3924360"/>
            <a:ext cx="403848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russian_empire"/>
          <p:cNvPicPr/>
          <p:nvPr/>
        </p:nvPicPr>
        <p:blipFill>
          <a:blip r:embed="rId1"/>
          <a:stretch/>
        </p:blipFill>
        <p:spPr>
          <a:xfrm>
            <a:off x="0" y="2666880"/>
            <a:ext cx="4648320" cy="3098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ussr"/>
          <p:cNvPicPr/>
          <p:nvPr/>
        </p:nvPicPr>
        <p:blipFill>
          <a:blip r:embed="rId2"/>
          <a:stretch/>
        </p:blipFill>
        <p:spPr>
          <a:xfrm>
            <a:off x="5105520" y="2708280"/>
            <a:ext cx="4038480" cy="3084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41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The March Revolutio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19360" y="0"/>
            <a:ext cx="4724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rigins: Food riots/strik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uma declared itself a </a:t>
            </a:r>
            <a:r>
              <a:rPr b="1" lang="en-US" sz="2400" spc="-1" strike="noStrike">
                <a:solidFill>
                  <a:srgbClr val="99ff66"/>
                </a:solidFill>
                <a:latin typeface="Tahoma"/>
              </a:rPr>
              <a:t>Provisional Government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n March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sar  ordered soldiers to intervene; instead they joined the rebellion…the Tsar thus </a:t>
            </a:r>
            <a:r>
              <a:rPr b="1" lang="en-US" sz="2400" spc="-1" strike="noStrike">
                <a:solidFill>
                  <a:srgbClr val="99ff66"/>
                </a:solidFill>
                <a:latin typeface="Tahoma"/>
              </a:rPr>
              <a:t>abdicated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n March 17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99ff66"/>
                </a:solidFill>
                <a:latin typeface="Tahoma"/>
              </a:rPr>
              <a:t>Menshevik Alexander Kerensky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headed the Provisional Government, along w/ </a:t>
            </a:r>
            <a:r>
              <a:rPr b="1" lang="en-US" sz="2400" spc="-1" strike="noStrike">
                <a:solidFill>
                  <a:srgbClr val="99ff66"/>
                </a:solidFill>
                <a:latin typeface="Tahoma"/>
              </a:rPr>
              <a:t>Prince Lvo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Very Popular Revolu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Kerensky favoured gradual socialist reform/ saw the war effort as #1 prior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7" descr="kerensky"/>
          <p:cNvPicPr/>
          <p:nvPr/>
        </p:nvPicPr>
        <p:blipFill>
          <a:blip r:embed="rId1"/>
          <a:stretch/>
        </p:blipFill>
        <p:spPr>
          <a:xfrm>
            <a:off x="0" y="1143000"/>
            <a:ext cx="2809800" cy="4876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thumb?id=10160"/>
          <p:cNvPicPr/>
          <p:nvPr/>
        </p:nvPicPr>
        <p:blipFill>
          <a:blip r:embed="rId2"/>
          <a:stretch/>
        </p:blipFill>
        <p:spPr>
          <a:xfrm>
            <a:off x="2590920" y="4191120"/>
            <a:ext cx="1990440" cy="266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Kornilov Affai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eral Kornilov attempted to overthrow Provisional Government with military takeo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prevent this takeover, Kerensky freed many Bolshevik leaders from prison and supplied arms to many revolutiona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4" descr="kornilov"/>
          <p:cNvPicPr/>
          <p:nvPr/>
        </p:nvPicPr>
        <p:blipFill>
          <a:blip r:embed="rId1"/>
          <a:stretch/>
        </p:blipFill>
        <p:spPr>
          <a:xfrm>
            <a:off x="4640400" y="1700280"/>
            <a:ext cx="3678120" cy="4246560"/>
          </a:xfrm>
          <a:prstGeom prst="rect">
            <a:avLst/>
          </a:prstGeom>
          <a:ln w="0">
            <a:noFill/>
          </a:ln>
        </p:spPr>
      </p:pic>
    </p:spTree>
  </p:cSld>
  <p:transition advTm="25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The Petrograd Sovie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038480" y="761760"/>
            <a:ext cx="510552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Tahoma"/>
              </a:rPr>
              <a:t>leftists in St. Petersburg formed the Petrograd Soviet, which they claimed to be the legit. gov’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Tahoma"/>
              </a:rPr>
              <a:t>Ger. was aware of the Russ. situation and began to concentrate on the W. Fro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Tahoma"/>
              </a:rPr>
              <a:t>Ger. even played a role in returning Lenin to Russia, so he could foment rev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Tahoma"/>
              </a:rPr>
              <a:t>Having been granted “safe passage”, Lenin returned in April 191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5" descr="339p11-2"/>
          <p:cNvPicPr/>
          <p:nvPr/>
        </p:nvPicPr>
        <p:blipFill>
          <a:blip r:embed="rId1"/>
          <a:stretch/>
        </p:blipFill>
        <p:spPr>
          <a:xfrm>
            <a:off x="0" y="2809800"/>
            <a:ext cx="5038560" cy="4048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petro4b"/>
          <p:cNvPicPr/>
          <p:nvPr/>
        </p:nvPicPr>
        <p:blipFill>
          <a:blip r:embed="rId2"/>
          <a:stretch/>
        </p:blipFill>
        <p:spPr>
          <a:xfrm>
            <a:off x="228600" y="762120"/>
            <a:ext cx="4648320" cy="2655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Soviet Political Ideolog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410080" y="838080"/>
            <a:ext cx="37339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radical and revolutionary than the Provisional Govern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influenced by Marxist social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ulated western social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o Fa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- “Mensheviks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- “Bolsheviks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7" descr="revolution"/>
          <p:cNvPicPr/>
          <p:nvPr/>
        </p:nvPicPr>
        <p:blipFill>
          <a:blip r:embed="rId1"/>
          <a:stretch/>
        </p:blipFill>
        <p:spPr>
          <a:xfrm>
            <a:off x="0" y="1600200"/>
            <a:ext cx="5334120" cy="3525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Founder of Bolshevism: Vladimir Leni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038480" y="685440"/>
            <a:ext cx="51055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s Early Ye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-Exiled to Siberia in 189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itted to Class Struggle and Rev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ved to London in 1902 and befriended Leon Trots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What is to be Don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Tahoma"/>
              </a:rPr>
              <a:t>vanguard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is required to lead the rev. (thus rev. from above) </a:t>
            </a:r>
            <a:r>
              <a:rPr b="0" lang="en-CA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this split the SDWP in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7" descr="lenin"/>
          <p:cNvPicPr/>
          <p:nvPr/>
        </p:nvPicPr>
        <p:blipFill>
          <a:blip r:embed="rId1"/>
          <a:stretch/>
        </p:blipFill>
        <p:spPr>
          <a:xfrm>
            <a:off x="0" y="838080"/>
            <a:ext cx="3816360" cy="533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Lenin Steps into This Vacuu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733920" y="609120"/>
            <a:ext cx="54100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mnesty granted to all political prisoners in March of 191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nin’s arrival in Petrogr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 tremendously charismatic persona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eace, Land, Bread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ll Power to the Soviet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Tahoma"/>
              </a:rPr>
              <a:t>He preached that the war was a capitalist/imperialist war that offered no rewards for the peasants/workers; he also felt the war was over w/ the czar’s abdi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olshevik party membership exploded; their power was consolid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7" descr="leninposter"/>
          <p:cNvPicPr/>
          <p:nvPr/>
        </p:nvPicPr>
        <p:blipFill>
          <a:blip r:embed="rId1"/>
          <a:stretch/>
        </p:blipFill>
        <p:spPr>
          <a:xfrm>
            <a:off x="0" y="1295280"/>
            <a:ext cx="3487680" cy="4953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-533520" y="304560"/>
            <a:ext cx="56390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Tahoma"/>
              </a:rPr>
              <a:t>Lenin formed the </a:t>
            </a:r>
            <a:r>
              <a:rPr b="1" i="1" lang="en-CA" sz="2800" spc="-1" strike="noStrike">
                <a:solidFill>
                  <a:srgbClr val="99ff66"/>
                </a:solidFill>
                <a:latin typeface="Tahoma"/>
              </a:rPr>
              <a:t>Military-Revolutionary Council</a:t>
            </a:r>
            <a:r>
              <a:rPr b="1" lang="en-CA" sz="2800" spc="-1" strike="noStrike">
                <a:solidFill>
                  <a:srgbClr val="ffffff"/>
                </a:solidFill>
                <a:latin typeface="Tahoma"/>
              </a:rPr>
              <a:t> and in May 1917 he urged the Pet. Soviet to pass </a:t>
            </a:r>
            <a:r>
              <a:rPr b="1" lang="en-CA" sz="2800" spc="-1" strike="noStrike">
                <a:solidFill>
                  <a:srgbClr val="99ff66"/>
                </a:solidFill>
                <a:latin typeface="Tahoma"/>
              </a:rPr>
              <a:t>Army Order #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Tahoma"/>
              </a:rPr>
              <a:t>This gave control of the army to the common soldiers; discipline thus collapsed, and Kerensky was undermin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5" descr="29_October17"/>
          <p:cNvPicPr/>
          <p:nvPr/>
        </p:nvPicPr>
        <p:blipFill>
          <a:blip r:embed="rId1"/>
          <a:stretch/>
        </p:blipFill>
        <p:spPr>
          <a:xfrm>
            <a:off x="5251320" y="838080"/>
            <a:ext cx="3892680" cy="533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76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e November Revolutio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876560" y="0"/>
            <a:ext cx="4267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Nov. 6, 1917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Tahoma"/>
              </a:rPr>
              <a:t>this was the ideological aspect of the rev., w/ the coup itself planned by </a:t>
            </a:r>
            <a:r>
              <a:rPr b="1" lang="en-CA" sz="2000" spc="-1" strike="noStrike">
                <a:solidFill>
                  <a:srgbClr val="99ff66"/>
                </a:solidFill>
                <a:latin typeface="Tahoma"/>
              </a:rPr>
              <a:t>Leon Trotsky</a:t>
            </a:r>
            <a:r>
              <a:rPr b="1" lang="en-CA" sz="2000" spc="-1" strike="noStrike">
                <a:solidFill>
                  <a:srgbClr val="ffffff"/>
                </a:solidFill>
                <a:latin typeface="Tahoma"/>
              </a:rPr>
              <a:t>, who had gained the confidence of the army (= the “Red Miracle”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Tahoma"/>
              </a:rPr>
              <a:t>Lenin went on to consolidate his power in Jan. 1918 when he disbanded the </a:t>
            </a:r>
            <a:r>
              <a:rPr b="1" i="1" lang="en-CA" sz="2000" spc="-1" strike="noStrike">
                <a:solidFill>
                  <a:srgbClr val="ffffff"/>
                </a:solidFill>
                <a:latin typeface="Tahoma"/>
              </a:rPr>
              <a:t>Constituent Assembly</a:t>
            </a:r>
            <a:r>
              <a:rPr b="1" lang="en-CA" sz="2000" spc="-1" strike="noStrike">
                <a:solidFill>
                  <a:srgbClr val="ffffff"/>
                </a:solidFill>
                <a:latin typeface="Tahoma"/>
              </a:rPr>
              <a:t> (had replaced the Duma) – the Bolsheviks had not gained a majority there in late Nov. elections  - Russ. dem. thus terminated </a:t>
            </a:r>
            <a:r>
              <a:rPr b="1" lang="en-CA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CA" sz="2000" spc="-1" strike="noStrike">
                <a:solidFill>
                  <a:srgbClr val="ffffff"/>
                </a:solidFill>
                <a:latin typeface="Tahoma"/>
              </a:rPr>
              <a:t> a </a:t>
            </a:r>
            <a:r>
              <a:rPr b="1" lang="en-CA" sz="2000" spc="-1" strike="noStrike">
                <a:solidFill>
                  <a:srgbClr val="99ff66"/>
                </a:solidFill>
                <a:latin typeface="Tahoma"/>
              </a:rPr>
              <a:t>Co</a:t>
            </a:r>
            <a:r>
              <a:rPr b="1" lang="en-US" sz="2000" spc="-1" strike="noStrike">
                <a:solidFill>
                  <a:srgbClr val="99ff66"/>
                </a:solidFill>
                <a:latin typeface="Tahoma"/>
              </a:rPr>
              <a:t>uncil of People’s Commissars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was crea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ll private property was abolished and divided among the peasant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Largest industrial enterprises nationaliz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7" descr="november"/>
          <p:cNvPicPr/>
          <p:nvPr/>
        </p:nvPicPr>
        <p:blipFill>
          <a:blip r:embed="rId1"/>
          <a:stretch/>
        </p:blipFill>
        <p:spPr>
          <a:xfrm>
            <a:off x="304920" y="762120"/>
            <a:ext cx="4343400" cy="2901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Trotsky_militant"/>
          <p:cNvPicPr/>
          <p:nvPr/>
        </p:nvPicPr>
        <p:blipFill>
          <a:blip r:embed="rId2"/>
          <a:stretch/>
        </p:blipFill>
        <p:spPr>
          <a:xfrm>
            <a:off x="228600" y="3822840"/>
            <a:ext cx="4572000" cy="3035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ovember Revolution (cont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3760" y="914400"/>
            <a:ext cx="3809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olitical Police organized: </a:t>
            </a:r>
            <a:r>
              <a:rPr b="1" lang="en-US" sz="2800" spc="-1" strike="noStrike">
                <a:solidFill>
                  <a:srgbClr val="99ff66"/>
                </a:solidFill>
                <a:latin typeface="Tahoma"/>
              </a:rPr>
              <a:t>CHE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volutionary army created with Trotsky in charge = “Red Army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olshevik Party renamed Communist Party in March of 191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6" descr="red Army"/>
          <p:cNvPicPr/>
          <p:nvPr/>
        </p:nvPicPr>
        <p:blipFill>
          <a:blip r:embed="rId1"/>
          <a:stretch/>
        </p:blipFill>
        <p:spPr>
          <a:xfrm>
            <a:off x="0" y="685800"/>
            <a:ext cx="4114800" cy="30290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Felix_Dzerzhinsky_1919"/>
          <p:cNvPicPr/>
          <p:nvPr/>
        </p:nvPicPr>
        <p:blipFill>
          <a:blip r:embed="rId2"/>
          <a:stretch/>
        </p:blipFill>
        <p:spPr>
          <a:xfrm>
            <a:off x="2438280" y="3124080"/>
            <a:ext cx="2725920" cy="373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November Revolution (cont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48320" y="761760"/>
            <a:ext cx="44956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Tahoma"/>
              </a:rPr>
              <a:t>Lenin’s 1st task was to get Russia out of the war so he could concentrate on internal reform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99ff66"/>
                </a:solidFill>
                <a:latin typeface="Tahoma"/>
              </a:rPr>
              <a:t>Treaty of Brest-Litovsk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negotiated with the Germans, </a:t>
            </a:r>
            <a:r>
              <a:rPr b="1" lang="en-CA" sz="2400" spc="-1" strike="noStrike">
                <a:solidFill>
                  <a:srgbClr val="ffffff"/>
                </a:solidFill>
                <a:latin typeface="Tahoma"/>
              </a:rPr>
              <a:t>giving them much Russian territory, population, and resour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ivil War followed, 1917-19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ds” versus “White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mplete breakdown of Russian economy and socie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6" descr="brest-litovsk"/>
          <p:cNvPicPr/>
          <p:nvPr/>
        </p:nvPicPr>
        <p:blipFill>
          <a:blip r:embed="rId1"/>
          <a:stretch/>
        </p:blipFill>
        <p:spPr>
          <a:xfrm>
            <a:off x="0" y="16002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e-Revolutionary Russi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295280"/>
            <a:ext cx="4038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nly true autocracy left in Europ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o type of representative political institu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icholas II became tsar in 188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elieved he was the absolute ruler anointed by G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usso-Japanese War (1904) – defeat led to pol. insta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7" descr="nicholas II"/>
          <p:cNvPicPr/>
          <p:nvPr/>
        </p:nvPicPr>
        <p:blipFill>
          <a:blip r:embed="rId1"/>
          <a:stretch/>
        </p:blipFill>
        <p:spPr>
          <a:xfrm>
            <a:off x="341280" y="1371600"/>
            <a:ext cx="4167360" cy="5105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nterpreting the Russian Revolu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48320" y="1142640"/>
            <a:ext cx="4495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official Marxist interpre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importance of a permanent international rev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ction of Russian History and Cul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osed Revolution on an unwilling victi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Social Revolution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7" descr="interp"/>
          <p:cNvPicPr/>
          <p:nvPr/>
        </p:nvPicPr>
        <p:blipFill>
          <a:blip r:embed="rId1"/>
          <a:stretch/>
        </p:blipFill>
        <p:spPr>
          <a:xfrm>
            <a:off x="447840" y="914400"/>
            <a:ext cx="3806640" cy="5943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5" descr="ussr"/>
          <p:cNvPicPr/>
          <p:nvPr/>
        </p:nvPicPr>
        <p:blipFill>
          <a:blip r:embed="rId1"/>
          <a:stretch/>
        </p:blipFill>
        <p:spPr>
          <a:xfrm>
            <a:off x="-304920" y="-304920"/>
            <a:ext cx="9677520" cy="7391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Revolution of 1905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838080"/>
            <a:ext cx="44956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apid growth of  (discontented) working cla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ast majority of workers concentrated in St. Petersburg and Mosc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ittle help from the countryside: impoverished peasants – Populist Movements of the 1870s and later had done little to improve their l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No individual land ownershi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ural Fam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7" descr="petersburg"/>
          <p:cNvPicPr/>
          <p:nvPr/>
        </p:nvPicPr>
        <p:blipFill>
          <a:blip r:embed="rId1"/>
          <a:stretch/>
        </p:blipFill>
        <p:spPr>
          <a:xfrm>
            <a:off x="0" y="685800"/>
            <a:ext cx="3352680" cy="3352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civil war"/>
          <p:cNvPicPr/>
          <p:nvPr/>
        </p:nvPicPr>
        <p:blipFill>
          <a:blip r:embed="rId2"/>
          <a:stretch/>
        </p:blipFill>
        <p:spPr>
          <a:xfrm>
            <a:off x="228600" y="3525840"/>
            <a:ext cx="4572000" cy="3332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274680"/>
            <a:ext cx="52578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Conservatism Continues: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1905-1917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867280" y="0"/>
            <a:ext cx="3276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sar paid no attention to the Duma; it was harassed and political parties suppressed – only token land reform was pass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icholas was personally a very weak man; he became increasingly remote as a rul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umerous </a:t>
            </a:r>
            <a:r>
              <a:rPr b="1" lang="en-US" sz="2400" spc="-1" strike="noStrike">
                <a:solidFill>
                  <a:srgbClr val="99ff66"/>
                </a:solidFill>
                <a:latin typeface="Tahoma"/>
              </a:rPr>
              <a:t>soviets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thus began to appe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10" descr="3091734"/>
          <p:cNvPicPr/>
          <p:nvPr/>
        </p:nvPicPr>
        <p:blipFill>
          <a:blip r:embed="rId1"/>
          <a:stretch/>
        </p:blipFill>
        <p:spPr>
          <a:xfrm>
            <a:off x="0" y="2133720"/>
            <a:ext cx="5657760" cy="4190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lexandra: The Power Behind the Thron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409720" y="1523520"/>
            <a:ext cx="40388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ven more blindly committed to autocracy than her husba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he was under the influence of Rasputi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rigins of Rasputin’s power - 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candals surrounding Rasputin served to discredit the monarch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7" descr="rasputin"/>
          <p:cNvPicPr/>
          <p:nvPr/>
        </p:nvPicPr>
        <p:blipFill>
          <a:blip r:embed="rId1"/>
          <a:stretch/>
        </p:blipFill>
        <p:spPr>
          <a:xfrm>
            <a:off x="2438280" y="2481120"/>
            <a:ext cx="2857680" cy="4376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Alexandra"/>
          <p:cNvPicPr/>
          <p:nvPr/>
        </p:nvPicPr>
        <p:blipFill>
          <a:blip r:embed="rId2"/>
          <a:stretch/>
        </p:blipFill>
        <p:spPr>
          <a:xfrm>
            <a:off x="0" y="838080"/>
            <a:ext cx="2841480" cy="4267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orld War I: “The Last Straw”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86400" y="761760"/>
            <a:ext cx="3657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ar revealed the ineptitude and arrogance of the country’s aristocratic eli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rrupt military leadership had contempt for ordinary Russian peo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verage peasants had very little invested in the W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8" descr="russian army"/>
          <p:cNvPicPr/>
          <p:nvPr/>
        </p:nvPicPr>
        <p:blipFill>
          <a:blip r:embed="rId1"/>
          <a:stretch/>
        </p:blipFill>
        <p:spPr>
          <a:xfrm>
            <a:off x="0" y="1905120"/>
            <a:ext cx="5486400" cy="364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orld War I (cont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495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Military disaster:  Mass desertions and 2 million casualties by 191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ult: Chaos and Disintegration of the Russian Arm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7" descr="surrender"/>
          <p:cNvPicPr/>
          <p:nvPr/>
        </p:nvPicPr>
        <p:blipFill>
          <a:blip r:embed="rId1"/>
          <a:stretch/>
        </p:blipFill>
        <p:spPr>
          <a:xfrm>
            <a:off x="0" y="761400"/>
            <a:ext cx="4038480" cy="2919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3067692"/>
          <p:cNvPicPr/>
          <p:nvPr/>
        </p:nvPicPr>
        <p:blipFill>
          <a:blip r:embed="rId2"/>
          <a:stretch/>
        </p:blipFill>
        <p:spPr>
          <a:xfrm>
            <a:off x="304920" y="3840120"/>
            <a:ext cx="4267080" cy="3017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Collapse of the Imperial Governmen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icholas left for the Front—September, 191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exandra and Rasputin throw the government into cha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exandra and other high government officials accused of trea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7" descr="cartoon"/>
          <p:cNvPicPr/>
          <p:nvPr/>
        </p:nvPicPr>
        <p:blipFill>
          <a:blip r:embed="rId1"/>
          <a:stretch/>
        </p:blipFill>
        <p:spPr>
          <a:xfrm>
            <a:off x="304920" y="1600200"/>
            <a:ext cx="3660480" cy="4952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</a:t>
            </a:r>
            <a:r>
              <a:rPr b="0" lang="en-US" sz="4400" spc="-1" strike="noStrike">
                <a:solidFill>
                  <a:srgbClr val="99ff66"/>
                </a:solidFill>
                <a:latin typeface="Tahoma"/>
              </a:rPr>
              <a:t>Two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evolutions of 1917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4640" y="1599840"/>
            <a:ext cx="2971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arch Revolution (March 1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vember Revolution (November 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7" descr="Lenin_trots"/>
          <p:cNvPicPr/>
          <p:nvPr/>
        </p:nvPicPr>
        <p:blipFill>
          <a:blip r:embed="rId1"/>
          <a:stretch/>
        </p:blipFill>
        <p:spPr>
          <a:xfrm>
            <a:off x="228600" y="1905120"/>
            <a:ext cx="5181480" cy="4089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03:09:27Z</dcterms:created>
  <dc:creator>Kuenzi</dc:creator>
  <dc:description/>
  <dc:language>en-US</dc:language>
  <cp:lastModifiedBy>Kuenzi</cp:lastModifiedBy>
  <dcterms:modified xsi:type="dcterms:W3CDTF">2011-04-04T00:41:21Z</dcterms:modified>
  <cp:revision>8</cp:revision>
  <dc:subject/>
  <dc:title>The Russian Revolution</dc:title>
</cp:coreProperties>
</file>